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70306"/>
        <c:axId val="33545576"/>
      </c:barChart>
      <c:catAx>
        <c:axId val="21070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45576"/>
        <c:crosses val="autoZero"/>
        <c:auto val="1"/>
        <c:lblAlgn val="ctr"/>
        <c:lblOffset val="100"/>
        <c:noMultiLvlLbl val="0"/>
      </c:catAx>
      <c:valAx>
        <c:axId val="33545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70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844-28CC-415D-A595-9181CA0A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88B-193A-4B0F-A046-C0AD7D2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1AC-F3D8-4BAD-AEDC-66E4EFF7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A4F-16C3-4235-B3CC-597945FA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AD8-5836-4670-82AE-C58C76AF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7A2-35CC-4FFB-889E-565C26D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40-19BE-4F14-88CF-1F097C8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011-DAFF-4E89-81CC-EC4451DF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FAD-8DE5-44DA-AA1B-9443F30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DF9-1AF8-4FFF-915F-B407FFB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61B-42FB-4AE9-B922-4427A28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929-FB1C-4643-BAA0-FE7350E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5957C-6CD9-4FA2-BC99-85835699C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