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1340"/>
        <c:axId val="19071232"/>
      </c:barChart>
      <c:catAx>
        <c:axId val="26521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71232"/>
        <c:crosses val="autoZero"/>
        <c:auto val="1"/>
        <c:lblAlgn val="ctr"/>
        <c:lblOffset val="100"/>
        <c:noMultiLvlLbl val="0"/>
      </c:catAx>
      <c:valAx>
        <c:axId val="19071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1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AD8-7189-475B-AC12-A414FEFB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5F9-1F3A-46F6-97B0-D32083C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A50-A261-4DB7-839B-7C4E95D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82F-420C-4664-8C56-0ED7778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733-8853-41D4-8BAD-BA16F06E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9F3-81FB-40BA-9AFD-AB5679F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18A-EF7A-40FB-A6BD-42FA4DB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321-7E32-43FF-996C-34CB0DF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D97-3E10-44D4-94EA-DDDE05A0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88E-5FB4-4D6E-91A1-D49BC1D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E08-D8E6-4085-88F4-D5DBA0A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696-8B1C-46E8-AAAC-8AE62FA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338B1-FCB5-430A-BD8D-900A1CC4DD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