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2656"/>
        <c:axId val="39866605"/>
      </c:barChart>
      <c:catAx>
        <c:axId val="3552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6605"/>
        <c:crosses val="autoZero"/>
        <c:auto val="1"/>
        <c:lblAlgn val="ctr"/>
        <c:lblOffset val="100"/>
        <c:noMultiLvlLbl val="0"/>
      </c:catAx>
      <c:valAx>
        <c:axId val="39866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2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A1B-33EF-4111-B87C-DBE15EB7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F99-D754-41E7-9D32-C68CEB7E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EB5-5EEA-4B17-B143-379F32CE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C3D-812A-422C-95C4-445B9DC7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0A7-2317-468B-9E57-2919D0D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2B7-93A5-4C9D-9757-9DB18964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46A-87AB-4F6D-8DB6-0055FF7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9DD-8C5D-4328-ADFC-0BF928D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2ED-F023-4A06-AB00-10B4E075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E11-A671-4747-B87A-7EC3966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D78-F770-42E5-AE4E-3B81899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EC5-1E59-480B-89C2-5862FEE6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9EF0-D2DC-4ABA-8752-2D35ACBE2C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