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41950"/>
        <c:axId val="84130552"/>
      </c:barChart>
      <c:catAx>
        <c:axId val="44441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0552"/>
        <c:crosses val="autoZero"/>
        <c:auto val="1"/>
        <c:lblAlgn val="ctr"/>
        <c:lblOffset val="100"/>
        <c:noMultiLvlLbl val="0"/>
      </c:catAx>
      <c:valAx>
        <c:axId val="84130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1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726-D01E-44CB-8299-64852652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B1C-FF51-42CF-87D9-C028C1D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4A8-04C5-4F17-9D3D-8F1BE84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6BC-844D-4AA8-B193-93BF30F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810-FD15-4192-A482-884CEC0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BE8-D5AB-4476-B9B4-AC06840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6F2-0C4E-4C99-9EB7-66C718A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E2B-5DEC-4A60-B48D-1B9B2FC0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14B-7840-40BA-B153-14184ED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0D4-5BA1-4C3A-BC6C-90C6A34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80-E058-41CE-9DBA-FF6FD7C8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A42-D108-4AEA-9FC5-45A0389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7F14-15A9-4684-A8F0-3C660B37B8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