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27208"/>
        <c:axId val="54870832"/>
      </c:barChart>
      <c:catAx>
        <c:axId val="67327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70832"/>
        <c:crosses val="autoZero"/>
        <c:auto val="1"/>
        <c:lblAlgn val="ctr"/>
        <c:lblOffset val="100"/>
        <c:noMultiLvlLbl val="0"/>
      </c:catAx>
      <c:valAx>
        <c:axId val="54870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27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D33-7F81-483D-97F3-5A867774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988-40B0-4E15-BA7C-E404D7DF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D48-EA49-40DD-8B72-AE6A55DD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EED-3F13-47FC-8750-1167A12D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5C3-A922-4103-B802-5C1E41D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47F-1AF5-4330-82FE-8B42910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D70-8999-4406-AA5D-3DE3099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C68-1AAD-41B8-B527-C07C6AC0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38F-7A0C-4C96-B7F7-8B5B2FD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88C-5B8A-47B8-B641-3E1AE11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988-A878-4162-8702-43C67D3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AA2-39DC-4864-9C2D-FAD96E2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337DD-A24E-4F1A-A119-13640DA0A1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