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92238"/>
        <c:axId val="96938207"/>
      </c:barChart>
      <c:catAx>
        <c:axId val="80992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38207"/>
        <c:crosses val="autoZero"/>
        <c:auto val="1"/>
        <c:lblAlgn val="ctr"/>
        <c:lblOffset val="100"/>
        <c:noMultiLvlLbl val="0"/>
      </c:catAx>
      <c:valAx>
        <c:axId val="96938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92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3DA-DBD0-4A20-BF74-F4C2C10C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8BD-EC67-4C75-9EF9-D2A9E926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193-C497-4247-97A7-615F18D6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794-FFF5-4103-A454-25E9076A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E47-6C0B-4B4C-AA53-18C054F4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947-A772-4741-90C8-BEE4D82C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363-340D-4EC9-BADD-8E0F6594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4DB-C625-4386-837B-27C3B59E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B4C-BA80-4675-80A3-E836D2BC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1C36-DDEA-4A78-AECE-9F243DB2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DCF5-3BF3-4736-83F0-0204BAED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6F1-20F8-482A-8C49-C2F3E242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AF079-089C-4955-AA45-0BCD452C26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