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84394"/>
        <c:axId val="23136226"/>
      </c:barChart>
      <c:catAx>
        <c:axId val="1328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36226"/>
        <c:crosses val="autoZero"/>
        <c:auto val="1"/>
        <c:lblAlgn val="ctr"/>
        <c:lblOffset val="100"/>
        <c:noMultiLvlLbl val="0"/>
      </c:catAx>
      <c:valAx>
        <c:axId val="23136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8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0A3-4B27-4C6F-B75E-69FF221C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AF6-C326-46FE-AA5C-8F541BA1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986-1599-4D48-A021-C8E5633E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7C7-7713-4A7E-8209-4EE7EEBA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144-D898-4F9F-BB8F-1A5C350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027-DC26-492E-BE50-C2016400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15F-3D66-4821-A720-A9D093D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31C-1167-4DAB-90BF-1639BBFA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5EA-78E6-45B6-BCD5-7F05EDE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A31-FF54-488A-BC00-5626775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7A5-E786-4EA9-A889-52877DF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9C8-158E-4DD1-9853-B523F6A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9E8D4-3BB0-4155-AD3A-D6E540CADC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