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99391"/>
        <c:axId val="76859730"/>
      </c:barChart>
      <c:catAx>
        <c:axId val="23899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59730"/>
        <c:crosses val="autoZero"/>
        <c:auto val="1"/>
        <c:lblAlgn val="ctr"/>
        <c:lblOffset val="100"/>
        <c:noMultiLvlLbl val="0"/>
      </c:catAx>
      <c:valAx>
        <c:axId val="76859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99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CAE-3E1F-457C-BF91-C00BE673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7A3-E19D-48BE-83A8-5711C4CE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1CC-B2BE-4269-B754-3ED61907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977-5416-4D6B-B04A-2258D97C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A1D-36BF-43A6-8181-C0324C91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4C8-743B-4959-A372-E450E321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016-BB67-4173-B2F9-9C50193F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CF1-5242-4A51-8342-8F072CDD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A07-A6FC-45EB-9F48-F36F57D7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239-A305-45F6-A8A8-4510B8D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F54-9D56-43A4-9819-3AEC8201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296-2CF4-4A8F-8E37-25BCAF0C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A46FF-54C9-4337-B052-554165126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