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86992"/>
        <c:axId val="77283593"/>
      </c:barChart>
      <c:catAx>
        <c:axId val="59486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3593"/>
        <c:crosses val="autoZero"/>
        <c:auto val="1"/>
        <c:lblAlgn val="ctr"/>
        <c:lblOffset val="100"/>
        <c:noMultiLvlLbl val="0"/>
      </c:catAx>
      <c:valAx>
        <c:axId val="77283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86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D2B-8A9E-497E-9717-21C88FBC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06B-5C2F-4173-BBD1-00B268D9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630-1651-48B6-97CF-8E0D9D24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A6F-B8E5-412F-9EB2-8D252B0D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E37-AD22-4E86-B9FA-505F4FD8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A36-912C-492C-891C-0A8C009B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7C1-EC54-44A2-B8E6-F67FD7FB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F26-A648-480C-B295-89F2F6A7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5C5-C169-4899-98ED-4E957CF5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56B-61B9-4CAD-887A-4DF2339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CE0-9AEC-44EF-B87D-F3BAAA03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220-B654-4EA5-96EF-C7D2CFD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76A0-CA55-4FF6-82C7-BF4B27FC4F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