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741408"/>
        <c:axId val="83651858"/>
      </c:barChart>
      <c:catAx>
        <c:axId val="417414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51858"/>
        <c:crosses val="autoZero"/>
        <c:auto val="1"/>
        <c:lblAlgn val="ctr"/>
        <c:lblOffset val="100"/>
        <c:noMultiLvlLbl val="0"/>
      </c:catAx>
      <c:valAx>
        <c:axId val="836518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414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26E4-978D-4D44-98BE-38ED4A7F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FE87-FFA8-4388-9E78-599301E6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6A1B-965A-4E73-A5AE-F9230C8A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C10-6655-4419-85AC-539FA5FF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70F0-680B-40C3-AB76-D588314F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8782-A5EE-43C6-9545-2EC38A94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D758-F726-49A9-A919-5BDFD0B4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DF6-BF66-4FC8-A58D-C05198A6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2CB2-ED67-49D1-A158-CD81E2CC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213-7B53-40F3-8F13-9ACB6D00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690-A649-4BDB-9696-A689BB30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40DB-13C1-400C-A48D-09D5EAFB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5D18A-E8D2-4555-AFEC-2C5EE42C47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