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62191"/>
        <c:axId val="17249312"/>
      </c:barChart>
      <c:catAx>
        <c:axId val="42962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49312"/>
        <c:crosses val="autoZero"/>
        <c:auto val="1"/>
        <c:lblAlgn val="ctr"/>
        <c:lblOffset val="100"/>
        <c:noMultiLvlLbl val="0"/>
      </c:catAx>
      <c:valAx>
        <c:axId val="17249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62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802-E35F-40A4-B2DB-49C2D3BB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DDA-3488-4987-A7CF-70659DDE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EF4-E7CC-4ABC-B9DB-FFFAC7FE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994A-97A2-4E10-934F-19735870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4B2-23DF-4B4F-8567-0105CCF8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B0B-0BC2-4792-B248-1D5FD279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A8B-C0A6-4229-985B-7B905612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58C-AEA7-4AB2-A2E3-5E328FEB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31B-8B2A-4533-80C6-5036454E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C0E4-ECD7-45F7-B922-B7E2FE8A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93D-840E-44A4-A224-D2F1DEB2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B205-F313-4DB2-978C-F8158EB6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C1354-2C5D-4BEE-A8EC-894E2B171D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