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79025"/>
        <c:axId val="59077454"/>
      </c:barChart>
      <c:catAx>
        <c:axId val="45279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77454"/>
        <c:crosses val="autoZero"/>
        <c:auto val="1"/>
        <c:lblAlgn val="ctr"/>
        <c:lblOffset val="100"/>
        <c:noMultiLvlLbl val="0"/>
      </c:catAx>
      <c:valAx>
        <c:axId val="59077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79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B13-319F-4046-92FB-4D3364AD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BD3-405B-4CB8-B655-205E905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E96-7E41-40C6-AFE4-D8787918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627-0B7B-4592-8499-296B1B12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2DB-2B26-4D3F-A4C4-4306BE55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8A5-370F-426F-8B0A-A9FB3D6C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53A-AB39-495A-8B05-FB04C666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5E2-C614-4BB3-A9A3-96392970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1D7-A1B5-4525-987B-78D0B4D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7A3-3ED5-4D4A-9E35-83A6789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CD6-A348-4CD5-85B4-5E8068B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C34-03D0-47C2-A01A-AD67B2A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28C98-BEA2-4A1B-90CB-BAA4FAEDBB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