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53089"/>
        <c:axId val="42268256"/>
      </c:barChart>
      <c:catAx>
        <c:axId val="10353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68256"/>
        <c:crosses val="autoZero"/>
        <c:auto val="1"/>
        <c:lblAlgn val="ctr"/>
        <c:lblOffset val="100"/>
        <c:noMultiLvlLbl val="0"/>
      </c:catAx>
      <c:valAx>
        <c:axId val="42268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53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CDD-8BC5-4279-8A0E-E1590221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F55-F76A-4E9D-8F82-B23957F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C0F-6716-45AB-8018-7001EE47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F66-2CA2-42C2-9DAC-6E7D9FF5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C71-22CC-44B4-AFCA-78E7AF16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4E1-0C3E-4A06-B9C9-6325DF1C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4A7-5C2D-4186-9481-EEA6BE82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120-C3A5-4519-9A05-7D25D90C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E34-B445-4A87-853C-1C3F59DB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AB0-31A5-43A3-8B16-2B472D8B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D58-E210-42F1-91CA-5B2C602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409-CBD2-439D-A19A-44FBE65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CB52C-A8DB-43A5-A7EC-763FD443E2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