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895438"/>
        <c:axId val="36592047"/>
      </c:barChart>
      <c:catAx>
        <c:axId val="548954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92047"/>
        <c:crosses val="autoZero"/>
        <c:auto val="1"/>
        <c:lblAlgn val="ctr"/>
        <c:lblOffset val="100"/>
        <c:noMultiLvlLbl val="0"/>
      </c:catAx>
      <c:valAx>
        <c:axId val="365920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954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823E-917F-48EC-B895-817897D2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A684-BC6A-44BA-B625-65692BDF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777A-0207-4D40-8D66-9D737DDF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65C4-AADA-4010-AD58-9596D68D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1C60-4A43-449A-A920-3612A6C5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A529-D55F-4387-A160-F301D6C9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90B2-4B53-44A2-A791-81AEEBD4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F3F5-9857-4B2C-8B1F-C7966D81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75DD-4F22-4DF8-AE23-F61281B8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C9BC-554C-4829-AFEC-14402E89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3D5-EBFA-41A4-A0A7-EE1278E1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CF9E-6679-42A2-8ACC-02A76C1D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AF2D2-866B-45F6-97D0-75C49C62F0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