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229674"/>
        <c:axId val="51216239"/>
      </c:barChart>
      <c:catAx>
        <c:axId val="602296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16239"/>
        <c:crosses val="autoZero"/>
        <c:auto val="1"/>
        <c:lblAlgn val="ctr"/>
        <c:lblOffset val="100"/>
        <c:noMultiLvlLbl val="0"/>
      </c:catAx>
      <c:valAx>
        <c:axId val="512162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2296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3BAD-DF88-43D6-9ABE-C9050DEF0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7E19-E755-4233-894D-602A0D4A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0D27-D342-49AA-9393-EED3B6CC2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B84E-62E0-4D11-83A5-21333A62C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FECB-15CB-4FED-8572-4B857C37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C47F-E4C1-4CA3-8E46-E37EED0D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39A7-809B-406A-88BB-A8452453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AEEC-6805-4BCA-AB0C-A478A25D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D4B6-4FC8-4F6A-8CD8-4DBAB9D8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CD86-5008-4FED-9C01-CF84BEE9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487C-CF78-4D24-970A-2F992D73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D584-3AE4-4657-8E9A-B13A3A51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6F367-5219-4236-8E1C-40B40AD81B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