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931381"/>
        <c:axId val="63260333"/>
      </c:barChart>
      <c:catAx>
        <c:axId val="549313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60333"/>
        <c:crosses val="autoZero"/>
        <c:auto val="1"/>
        <c:lblAlgn val="ctr"/>
        <c:lblOffset val="100"/>
        <c:noMultiLvlLbl val="0"/>
      </c:catAx>
      <c:valAx>
        <c:axId val="632603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9313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C135-C4CE-417F-AB86-3BFF8766E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1181-6E92-486E-BC52-6AF2FCD3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D739-7E1E-4BDD-9635-DA62AD07E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394C-C90D-4862-B828-59E6E554A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3EB1-24DD-436E-9623-C7713116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14D1-E2B1-4016-8C58-99EB75DA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2B81-CC55-40C1-92EC-297DF69B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15AC-7F1D-4329-8232-82A8B8B9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4603-8096-47AE-9AB9-B93B85EC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DB06-2908-44AA-904F-2BE394FF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F448-3DDA-4A00-B2A3-BD5439EC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570C-CAA8-4084-9D25-665D1E11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15917-3F49-445A-86D0-094831EE10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