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065164"/>
        <c:axId val="50261454"/>
      </c:barChart>
      <c:catAx>
        <c:axId val="260651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61454"/>
        <c:crosses val="autoZero"/>
        <c:auto val="1"/>
        <c:lblAlgn val="ctr"/>
        <c:lblOffset val="100"/>
        <c:noMultiLvlLbl val="0"/>
      </c:catAx>
      <c:valAx>
        <c:axId val="502614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651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D9D1-D763-413B-A657-574410D5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E866-8E3D-41F4-AB06-8B72EE59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787D-B0AF-4364-BB7F-5D42C5C7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B477-9648-476B-AE32-480B7C6E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BFDD-39FC-41FF-AC26-1F586263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C8B4-6A25-4AFD-9FAE-6406A7E9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FCC6-A124-4AEF-AA43-0B795B40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EBE7-2843-4C76-A5EE-F34D62FE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5FA1-E9E8-4315-A38F-61398C19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FAE6-D913-4E0E-A310-28FB209F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1A9D-8693-45BB-A037-98B08B06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4855-4691-4714-A614-3E09F1AE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11759-A230-4B9C-B1A1-625512B2AA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