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32254"/>
        <c:axId val="16433971"/>
      </c:barChart>
      <c:catAx>
        <c:axId val="597322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33971"/>
        <c:crosses val="autoZero"/>
        <c:auto val="1"/>
        <c:lblAlgn val="ctr"/>
        <c:lblOffset val="100"/>
        <c:noMultiLvlLbl val="0"/>
      </c:catAx>
      <c:valAx>
        <c:axId val="164339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322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1B52-9926-4CA5-97EE-7071C99E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C811-06A5-46F2-9595-A79480EA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AB0-0F42-4C03-BE75-B18533DC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0EF8-1076-4FD7-BFB0-ACBF0582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6FAA-35B5-4E57-8500-3F3266DF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FF2-FCEF-4228-A0F1-0C6FFA4C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DF6-ADBA-4275-866A-D472B132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B2F-88E9-4E4A-AD16-7756BE0B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4FB-9437-4F59-B331-992EF717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333-2F18-4165-8A23-C6485B8E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954-3D7C-41C0-91B5-6AD87ABA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D9AD-1542-411B-B481-28848CE3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0B928-7ADA-4157-B781-1601556B6E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