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79361"/>
        <c:axId val="55036315"/>
      </c:barChart>
      <c:catAx>
        <c:axId val="28479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36315"/>
        <c:crosses val="autoZero"/>
        <c:auto val="1"/>
        <c:lblAlgn val="ctr"/>
        <c:lblOffset val="100"/>
        <c:noMultiLvlLbl val="0"/>
      </c:catAx>
      <c:valAx>
        <c:axId val="55036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79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E05-F9B1-44E7-8A61-B3D7AC8D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0B1-A0A4-4909-B19B-35313943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38D-2032-400A-A7C4-DA89730F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D46-62D6-4A4E-84C6-5C6662EA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C60-38BD-4B68-9886-6B423C9D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984-B382-424E-AE1C-A34584A4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FF6-57B3-499E-887B-DC351322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3AC-9FBE-4F28-9B68-A83D32B1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772-9FF6-4F60-AB6D-6CD3DF90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19A-3CAD-4084-B2AE-967DA841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091-1EBD-4C11-95B4-57B37B3A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327-1BAD-4303-B660-C4386FC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FABAD-664C-49DC-AADE-4656FA3889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