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476038"/>
        <c:axId val="99903521"/>
      </c:barChart>
      <c:catAx>
        <c:axId val="334760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03521"/>
        <c:crosses val="autoZero"/>
        <c:auto val="1"/>
        <c:lblAlgn val="ctr"/>
        <c:lblOffset val="100"/>
        <c:noMultiLvlLbl val="0"/>
      </c:catAx>
      <c:valAx>
        <c:axId val="999035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760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AA6-66D5-44A1-891A-35CCB3D9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9D1A-E610-423D-8336-A8E5D86A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6E13-7169-41FF-8BCF-DEAD9F13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521A-B846-448A-82BE-1104C6BE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48E6-1A28-41AE-8824-B3FB2AE8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2130-E4C0-48A0-9403-5BDD3B40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605F-96DF-43F2-B65C-D2112C72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814B-F544-48F1-AABD-838AA32A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A7BA-C5B4-4111-8E16-13AAF309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417-5C54-43A3-8AAC-5A8A417A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C6D0-B65B-4DEB-BAF6-81E3E148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6278-A099-4B2F-BFDE-A0D5704C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FB39B-4497-40FF-B5D6-5324891654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