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25111"/>
        <c:axId val="15910372"/>
      </c:barChart>
      <c:catAx>
        <c:axId val="20251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910372"/>
        <c:crosses val="autoZero"/>
        <c:auto val="1"/>
        <c:lblAlgn val="ctr"/>
        <c:lblOffset val="100"/>
        <c:noMultiLvlLbl val="0"/>
      </c:catAx>
      <c:valAx>
        <c:axId val="159103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251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46D7-6F64-4976-B895-5E9B8CC44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5EC4-1728-40B3-98E7-ACF09F35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C2DA-8ECB-4BD1-9802-A15EBAABC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F0D1-DA09-4165-ADA0-A8861C8C3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8B5C-4440-48CF-947F-74E5303B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8A79-FFFE-46C8-825A-3A45E0F2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3E01-C379-432D-A4E8-E27FF685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9940-0479-41D4-853B-2917761A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4E01-A926-4C88-8E48-4C77700F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385F-BEB9-4608-9233-2FDBB04F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11A4-EF96-4DFB-9B7F-B40FF269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097B-7562-4660-A7B4-5723FA6C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E7E083-5367-4FD1-A014-36D41A5F63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