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88998"/>
        <c:axId val="93419931"/>
      </c:barChart>
      <c:catAx>
        <c:axId val="87388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19931"/>
        <c:crosses val="autoZero"/>
        <c:auto val="1"/>
        <c:lblAlgn val="ctr"/>
        <c:lblOffset val="100"/>
        <c:noMultiLvlLbl val="0"/>
      </c:catAx>
      <c:valAx>
        <c:axId val="93419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88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676-BFD9-4DC2-AFE3-F294D24B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FA4-077E-4EEA-9734-F4BF2805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38C2-DAA8-4B13-80AF-2D731C68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DB4-0259-475C-A41F-64371663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5D6F-2802-4D2D-98DC-B660FCAD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52C-D9BE-4E0A-BDAE-088E10B8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67F-68AE-449D-8BF8-8F57C5C8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2210-163B-44EA-936E-35CB6BF4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C66-2591-4EE1-A784-F7028676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EF97-205E-4EFC-9A5F-141AD419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4E0A-CFF6-4D4C-93EF-B1F49A1F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97C-D447-4C9E-9CDA-68C5AC7E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38FB4-3032-446C-9155-FCA880E4B4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