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795382"/>
        <c:axId val="47539907"/>
      </c:barChart>
      <c:catAx>
        <c:axId val="747953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39907"/>
        <c:crosses val="autoZero"/>
        <c:auto val="1"/>
        <c:lblAlgn val="ctr"/>
        <c:lblOffset val="100"/>
        <c:noMultiLvlLbl val="0"/>
      </c:catAx>
      <c:valAx>
        <c:axId val="475399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953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E4CF-CB18-41A8-9821-3AC2B866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82AC-A07E-451C-9AD0-DFBBCD4C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6536-981C-4E5D-BAE6-73900E61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0976-455A-4D6C-BCEE-12D71B6C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70A2-17B5-44AE-B69C-12004F24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1D4-1B6F-46B2-B1F0-A1E3DDD5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364-06C0-4D3C-A4D5-E8A888BF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276-B172-4FD1-A079-3A35803E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D191-67CE-4127-AB9A-CB502622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D08-D355-4682-B6BD-6659D430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1E61-DDA4-4F5F-AE95-B4FC670E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DE74-B65D-48C2-B08F-00DA8653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C36D2-C8E2-477B-BA63-FAADFFB3F4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