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05710"/>
        <c:axId val="89212754"/>
      </c:barChart>
      <c:catAx>
        <c:axId val="17705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12754"/>
        <c:crosses val="autoZero"/>
        <c:auto val="1"/>
        <c:lblAlgn val="ctr"/>
        <c:lblOffset val="100"/>
        <c:noMultiLvlLbl val="0"/>
      </c:catAx>
      <c:valAx>
        <c:axId val="89212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05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3A47-F78E-416D-9062-9BB3BC1F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402-F808-41F1-9365-E14BCE6E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D12-8235-4CC6-9DBF-173B2C6A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5E2-8821-44EC-8E61-A9627898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8F5-4E67-46BA-824E-C6FBE3F0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67E-2405-4FB0-9F85-2EE966BB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3E6-CFE5-44D9-8B91-70548474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FE3-39A5-4D23-A5C4-4879EE18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D0A-9A1E-4E71-A6CF-0BC8056A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F64-84A7-46BF-A734-7DA08993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55A-E212-43E9-855A-79530E19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827-938E-4BA0-9D14-94600695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5C526-74FF-4552-BA47-30F9B8D729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