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229298"/>
        <c:axId val="14853876"/>
      </c:barChart>
      <c:catAx>
        <c:axId val="162292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53876"/>
        <c:crosses val="autoZero"/>
        <c:auto val="1"/>
        <c:lblAlgn val="ctr"/>
        <c:lblOffset val="100"/>
        <c:noMultiLvlLbl val="0"/>
      </c:catAx>
      <c:valAx>
        <c:axId val="14853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292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E767-0202-4B37-8A2E-E57D0EDF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B705-E67D-401B-8AF9-699402B2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E9C7-1CC9-47A6-977D-9156862E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D33-41F6-4EE8-826A-397880D7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C71-8B62-416B-BA6A-26549F9B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950-EF19-4A0E-999A-39A9F556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1D59-3B14-4EF6-A3F7-AD46C7D2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3491-A916-4F22-BB5B-8C2D6B27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D39-33B2-46EA-8B72-D5A9FF52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1ADE-D7D9-4BCC-8AD7-0E2EC423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C13-9D98-4F9C-844C-48F06600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27E-286D-42DB-9F1E-E9961830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A36CE-CCC5-4DC4-97B1-9CDADE9B0B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