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15713"/>
        <c:axId val="79120213"/>
      </c:barChart>
      <c:catAx>
        <c:axId val="92315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0213"/>
        <c:crosses val="autoZero"/>
        <c:auto val="1"/>
        <c:lblAlgn val="ctr"/>
        <c:lblOffset val="100"/>
        <c:noMultiLvlLbl val="0"/>
      </c:catAx>
      <c:valAx>
        <c:axId val="79120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5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691-0154-4F97-A8AA-7770EE6E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8C5-E067-4256-90E8-B14D765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562-51AA-481B-AD55-531B487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E65-730E-41B2-A9CA-9A340C9E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492-A17D-489A-99CF-E8A1AAF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2A2-D6E0-40C7-A65E-57EF5CF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D5F-9743-4FB9-9A6A-A01BF367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207-E068-48AD-926B-B56CA916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E8E-A4CA-407C-8ED3-5699D42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C05-1F4D-4315-9F6B-BC36E51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972-FE47-4D1C-8318-C1BC40C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402-945E-41B4-AAB9-872BF984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781B3-A7BC-42BD-8732-100B65B54D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