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8154"/>
        <c:axId val="91348466"/>
      </c:barChart>
      <c:catAx>
        <c:axId val="9878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8466"/>
        <c:crosses val="autoZero"/>
        <c:auto val="1"/>
        <c:lblAlgn val="ctr"/>
        <c:lblOffset val="100"/>
        <c:noMultiLvlLbl val="0"/>
      </c:catAx>
      <c:valAx>
        <c:axId val="91348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8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F82-371E-48F7-86AA-9BC1DDE7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288-778B-444D-8741-515B90B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E10-047C-42F4-AA61-3891F503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6F5-1B01-4E46-BBC6-D03A214C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2E6-2477-4B52-8781-5F9F06C6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DD1-FC20-4652-949E-3EC8019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6DE-0104-4611-AE2F-EB25B039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C37-3B5C-41EE-B036-7109C1B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904-9F48-4068-9056-BFB45256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715-27E6-4C63-928D-4D66160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7D8-03FD-4D2A-ABEE-1FAB53B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396-EC9C-425A-A6D5-4E98C7E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113A-7739-4815-82BB-E79AA8D952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