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14324"/>
        <c:axId val="6717766"/>
      </c:barChart>
      <c:catAx>
        <c:axId val="95914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7766"/>
        <c:crosses val="autoZero"/>
        <c:auto val="1"/>
        <c:lblAlgn val="ctr"/>
        <c:lblOffset val="100"/>
        <c:noMultiLvlLbl val="0"/>
      </c:catAx>
      <c:valAx>
        <c:axId val="6717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14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71E-F139-4FE7-BB64-27A859B6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66C-B908-42D4-AFF5-C8D9C251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9CC-EE4C-4F22-8A86-6B8F9DD7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15B-C5A6-4A35-A4BF-0C7012FD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D14-8B62-413D-9CF2-F5C9BDD1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209-ED09-46B4-9CA4-A99C311E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9D8-9DDE-423D-9414-4F5CE2A3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34D-C232-4544-A8BE-55893314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2B3-A534-49FD-A2DC-8AEB5B97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854-BE3D-469F-909A-4B0E9BB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9B2-AA64-4BD5-99B1-99DBCE7F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B1A-F077-4739-A2F0-523189CE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87026-8E0C-420B-A855-638A552DE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