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63"/>
        <c:axId val="29446128"/>
      </c:barChart>
      <c:catAx>
        <c:axId val="53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46128"/>
        <c:crosses val="autoZero"/>
        <c:auto val="1"/>
        <c:lblAlgn val="ctr"/>
        <c:lblOffset val="100"/>
        <c:noMultiLvlLbl val="0"/>
      </c:catAx>
      <c:valAx>
        <c:axId val="29446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C2F-9431-4067-B112-A418446A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AEB-82E7-4283-9A95-A16C9A60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0D2-4242-4C70-9AE0-7A30270F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427-9A89-410B-9A40-8F064201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D4D-3427-4A2F-986A-0196109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370-09A8-4972-A48A-C024C4E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907-14C2-42E0-BBD7-7BCD38F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23E-8068-498A-A636-23401EA6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515-1905-400B-AAC2-DB596574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18D-BA5B-45CD-A3AD-D55C7DF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0B5-2788-4CAB-8F21-C5E77EA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4DB-28AC-470A-8BA3-EA5150B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127FB-D0CE-4477-B85E-767E78C6A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