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601302"/>
        <c:axId val="90645095"/>
      </c:barChart>
      <c:catAx>
        <c:axId val="746013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645095"/>
        <c:crosses val="autoZero"/>
        <c:auto val="1"/>
        <c:lblAlgn val="ctr"/>
        <c:lblOffset val="100"/>
        <c:noMultiLvlLbl val="0"/>
      </c:catAx>
      <c:valAx>
        <c:axId val="906450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6013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22CF-9BE8-45C6-8415-45BAFD3DA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D8A9-4B17-4137-A60A-75188BAC6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0A2C-867F-48FD-A244-F13834F8D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F201-94F5-402F-801F-8D67DEC54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FEDC-AFAB-4ABC-9215-1A7C5DE6E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1C54-67B2-4BFF-97A1-71FE50050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1A29-007B-4AE1-9F1D-237E34D04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1C51-0B48-427C-A06D-3E7D21E85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DE4C-FCB6-4A09-AFD9-4125DBB2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2D10-AEB9-4B75-A2C9-A7198672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5F42-C605-4C9F-8CE3-46BEE514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F1CC-E521-4EE0-8202-5E0AE064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356226-073B-40AC-85BA-CDD81B4E7D2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