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18468"/>
        <c:axId val="79855856"/>
      </c:barChart>
      <c:catAx>
        <c:axId val="27518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55856"/>
        <c:crosses val="autoZero"/>
        <c:auto val="1"/>
        <c:lblAlgn val="ctr"/>
        <c:lblOffset val="100"/>
        <c:noMultiLvlLbl val="0"/>
      </c:catAx>
      <c:valAx>
        <c:axId val="79855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18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717-0610-4839-9470-05493D9B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5D3-A46E-4342-8C43-0E302616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F1B-A2E8-4FCA-AB4D-3F45C798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96E-E261-41C3-A0B0-24B254E4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411-AB74-4F50-BD71-F25BA82C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CFD-3FE0-44F6-A858-2C3CBA7F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00A-4233-47C9-A78F-C8E536DE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29A5-E6E7-4F66-8158-CC89F359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2D85-16C9-46DC-A3A3-E21EA95E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DBF-1B03-4029-8CBC-B56DE563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043-032E-4126-9EB7-4F2BFB42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6D5-49FB-4C00-8732-92F81375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11723-A2B8-4FD2-A7C2-B4D5B86BBD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