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472"/>
        <c:axId val="78289009"/>
      </c:barChart>
      <c:catAx>
        <c:axId val="715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89009"/>
        <c:crosses val="autoZero"/>
        <c:auto val="1"/>
        <c:lblAlgn val="ctr"/>
        <c:lblOffset val="100"/>
        <c:noMultiLvlLbl val="0"/>
      </c:catAx>
      <c:valAx>
        <c:axId val="78289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973-6D97-4F37-B14F-E9D767BC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8DA-7ACF-4D2D-8222-C308EDE3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C55-6A34-4848-8749-90FFFD2A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157-3A88-4C37-B6E4-6402675E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9D3-6AFF-423D-8A6B-D1841C7C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06B-293B-4F31-AD98-DA49A696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B64-4563-4AC1-B4E2-C209CFF6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CA2-6AB7-4C09-8179-B1E308FA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F83-5FC6-4AD9-9160-AA4A93CC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E48-6B40-4CAC-9D65-7F40779F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CBA-63A8-476A-B30E-ADAB5781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6F2-7153-4F29-9839-E512A073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C4705-B107-420F-A5A8-3923D36673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