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971789"/>
        <c:axId val="6626184"/>
      </c:barChart>
      <c:catAx>
        <c:axId val="369717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26184"/>
        <c:crosses val="autoZero"/>
        <c:auto val="1"/>
        <c:lblAlgn val="ctr"/>
        <c:lblOffset val="100"/>
        <c:noMultiLvlLbl val="0"/>
      </c:catAx>
      <c:valAx>
        <c:axId val="66261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9717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7CAE-9421-4CA7-BE1A-0D5406CFC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74E8-2BAB-469B-8CE8-F536E2A91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333B-D4F8-4557-A917-7FD77F433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6A4C-7EBD-4FAB-B24A-81141F82A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5F35-328A-4E6B-9DF5-C7F5737DD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EB32-BF38-4517-8014-6E6A00CCF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231B-45D1-4AA5-A089-581B06F14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0184-3E92-480C-B5F9-D03DCC402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DDCE-A12B-44E0-9887-046E1C96B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D856-56D9-4340-8EF7-69DE81B2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5CB4-8FF1-4262-AFED-96EC6810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AE54-EF4A-428F-888C-846003CB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75E688-BBC8-4063-9144-2CB7E9FE8BD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