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633099"/>
        <c:axId val="26691142"/>
      </c:barChart>
      <c:catAx>
        <c:axId val="306330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91142"/>
        <c:crosses val="autoZero"/>
        <c:auto val="1"/>
        <c:lblAlgn val="ctr"/>
        <c:lblOffset val="100"/>
        <c:noMultiLvlLbl val="0"/>
      </c:catAx>
      <c:valAx>
        <c:axId val="266911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330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98E-412F-4AEF-8AD3-36061035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702-1D8D-4310-A225-1965D518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90C-1C6A-4942-856C-38411565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52C6-214C-44B6-B05C-2CC8E0EE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D27-60E6-43EB-BAE7-43E835A7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9256-681D-4C46-979C-13BDA7A9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DAA6-7DC2-4D35-BA36-BCA49A8B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0D9-89A0-438C-B7F5-36C50451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9F8C-6B0B-4F3E-B43A-37E5ED18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430-7100-42C0-A9A4-2CA3C3FE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87CB-2E7F-44CC-AB04-7167BE95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52D1-F9AE-4EA4-8B9F-C2C9FBBF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4921F-5AFB-4BBB-B351-824CE8F2DB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